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6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7.png" ContentType="image/png"/>
  <Override PartName="/ppt/media/image55.png" ContentType="image/png"/>
  <Override PartName="/ppt/media/image20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36.jpeg" ContentType="image/jpeg"/>
  <Override PartName="/ppt/media/image57.png" ContentType="image/png"/>
  <Override PartName="/ppt/media/image35.jpeg" ContentType="image/jpeg"/>
  <Override PartName="/ppt/media/image1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2.png" ContentType="image/png"/>
  <Override PartName="/ppt/media/image25.jpeg" ContentType="image/jpeg"/>
  <Override PartName="/ppt/media/image22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16.jpeg" ContentType="image/jpeg"/>
  <Override PartName="/ppt/media/image64.png" ContentType="image/png"/>
  <Override PartName="/ppt/media/image15.jpeg" ContentType="image/jpeg"/>
  <Override PartName="/ppt/media/image4.jpeg" ContentType="image/jpeg"/>
  <Override PartName="/ppt/media/image6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42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13A-26C3-404E-8505-6D2653A2A538}" type="slidenum">
              <a:rPr b="0" lang="sr-Latn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469-2AB6-413B-86A6-CB741E19AA35}" type="slidenum">
              <a:rPr b="0" lang="sr-Latn-R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4EA-3E0D-4CA5-A963-973EC4B7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232-6F9B-4F47-96DE-D2CD7FF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DC8-184C-4B8C-952F-4C68E2A4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DE3-AB8A-42FD-B0CF-652D7223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BB4F-FC7C-472C-BCC5-6708068B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2FE-488E-4D4E-8CE3-93DC564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64C9-3E0A-489F-A4F5-6AEAD0C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F522-52CF-4B6B-BB95-E3EA0776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BBE-ABF5-4648-B843-9EDD10DB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D783-696D-4E02-8163-51B6B336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609B-41F4-45B2-B9DC-4DE0636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E5D-E11B-4FAC-90F4-E41BDE2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194D-6091-4D97-B1F5-68123FB6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729-8C66-4B6C-B0CE-334995E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D447-AE83-47FE-A4AA-DFDCBC8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485-CD89-4BF3-8C5E-EB54BBA6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48D-6BF1-4AA5-BAAB-3D6A0251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495-9B1F-4D5B-BF79-AF475123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FC3-03B3-458C-A7E4-15A1178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322-2E95-4E8C-954D-86E9475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065-5B02-426D-8411-037A567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819-07CA-41F7-A27C-0A38510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66E-141D-4767-BE8E-71D082A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5F6-200A-4C16-B7D3-ADCC34F2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2F3-C638-4748-B9DF-0A13E91DCCD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24DD-C6C4-4135-87A0-8DDCE947562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07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60300c"/>
                </a:solidFill>
                <a:latin typeface="Times New Roman"/>
                <a:ea typeface="Times New Roman"/>
              </a:rPr>
              <a:t>Хемијске повреде</a:t>
            </a:r>
            <a:br>
              <a:rPr sz="5400"/>
            </a:br>
            <a:endParaRPr b="0" lang="en-US" sz="5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3741840" cy="102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1" name="Picture 6" descr="http://www.b92.net/news/pics/2009/10/6997366764ad833f861cf9214770231_extreme.jpg"/>
          <p:cNvPicPr/>
          <p:nvPr/>
        </p:nvPicPr>
        <p:blipFill>
          <a:blip r:embed="rId1"/>
          <a:stretch/>
        </p:blipFill>
        <p:spPr>
          <a:xfrm>
            <a:off x="0" y="2928960"/>
            <a:ext cx="4286160" cy="347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www.vesti-online.com/data/images/2010-04-01/49037_pathology-analysis_f.jpg?ver=1270150760"/>
          <p:cNvPicPr/>
          <p:nvPr/>
        </p:nvPicPr>
        <p:blipFill>
          <a:blip r:embed="rId2"/>
          <a:stretch/>
        </p:blipFill>
        <p:spPr>
          <a:xfrm>
            <a:off x="4427640" y="2928960"/>
            <a:ext cx="471636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64000" y="2060640"/>
            <a:ext cx="4680000" cy="43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ПОВРЕДЕ ИЛИ ТРО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OXICATIONES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ИСПОЉАВАЊЕМ ИСКЉУЧИВО ХЕМИЈСКИХ ДЕЈСТАВ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Х СУПСТАНЦИ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ЕТИХ У ОРГАНИЗАМ ИЗ СПОЉАШЊЕ С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398[1]"/>
          <p:cNvPicPr/>
          <p:nvPr/>
        </p:nvPicPr>
        <p:blipFill>
          <a:blip r:embed="rId1"/>
          <a:stretch/>
        </p:blipFill>
        <p:spPr>
          <a:xfrm>
            <a:off x="642960" y="2133720"/>
            <a:ext cx="4071960" cy="439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33523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СВАКА ХЕМИЈСКА СУПСТАНЦА МОЖЕ БИТИ ОТРОВ ПОД ОДРЕЂЕНИМ ОПШТИМ И ПОСЕБНИМ УСЛ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2060640"/>
            <a:ext cx="9036000" cy="43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1. Особине хемијск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емијски афинитет супстанце за ћелије и 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грегатно стање хемијск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створљивост супстанце у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нета количина-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036000" cy="405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KO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ЛИЧИНА ОТРОВА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 СВАКАКО ЈЕДАН ОД ВАЖНИХ УСЛОВА ТРО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 ПРОСЕКУ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ТОКСИЧНОСТ РАСТЕ СА ПОВЕЋАЊЕМ Д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is indife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is terape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Dosis tox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Dosis let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-360" y="2276640"/>
            <a:ext cx="5219640" cy="412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2. Начин уношења супстанце у орган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3. Индивидуална реактивност на неку супста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trovanje_olovom[1]"/>
          <p:cNvPicPr/>
          <p:nvPr/>
        </p:nvPicPr>
        <p:blipFill>
          <a:blip r:embed="rId1"/>
          <a:stretch/>
        </p:blipFill>
        <p:spPr>
          <a:xfrm>
            <a:off x="5940360" y="2276640"/>
            <a:ext cx="3024360" cy="331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Својства организма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3352320"/>
            <a:ext cx="88567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јство отрова зависи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д општег стања и индивидуалних особина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значајнији услови који имају утицај на тровање су: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узраст, телесна тежина, пол, здравствено стање и привикнутост или непривикнутост организма на о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201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олеранција и преосетљивост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8675640" cy="37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1" lang="sr-RS" sz="2400" spc="-1" strike="noStrike">
                <a:solidFill>
                  <a:srgbClr val="c00000"/>
                </a:solidFill>
                <a:latin typeface="Arial"/>
              </a:rPr>
              <a:t>ЛЕРА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мањена осетљивост на уобичајене количине отрова које у нормалним околностима тешко оштећ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ље или проузрокују см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(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жноамерички Индијанци који показују значајно смањену осетљивост на кока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сенофагија код дрвосеча у Алпима и у Кана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протно је 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ПРЕОСЕТЉИВ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организма на неке унете материје и у дозама значајно нижим од токсичних или терапијских након другог уноса јер је тело сензибилис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им унос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c00000"/>
                </a:solidFill>
                <a:latin typeface="Arial"/>
              </a:rPr>
              <a:t>НАФИЛАКСА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Arial"/>
              </a:rPr>
              <a:t>ИДИОСИНКРАЗ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генетски условљена измењена реакција организма на унету супстанцу због урође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етаболичког или ензимског дефици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аје при првој употреби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9036000" cy="17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60300c"/>
                </a:solidFill>
                <a:latin typeface="Arial Black"/>
              </a:rPr>
              <a:t>Me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таболизам отрова</a:t>
            </a:r>
            <a:br>
              <a:rPr sz="3600"/>
            </a:b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Свака хемијска супстанца унета у организам пролази тзв. три пута: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4220640"/>
            <a:ext cx="7772400" cy="25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ресорп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дистриб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биотрансформ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излуч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СУДСКОМЕДИЦИНСКО ДОКАЗИВАЊЕ ТРОВАЊА</a:t>
            </a: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763272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СНИВА СЕ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НАРОЧИТЕ ОКОЛНОСТИ СЛУЧ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ЛИНИЧКА СЛИК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СУДСКОМЕДИЦИНСКА ОБДУКЦ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ХЕМИЈСКОТОКСИКОЛОШКО ИСПИТИВАЊЕ ТЕЛЕСНИХ ТЕЧНОСТИ И ОРГАН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60300c"/>
                </a:solidFill>
                <a:latin typeface="Arial Black"/>
              </a:rPr>
              <a:t>БРОЈНА СУ ПИТАЊА НА КОЈА ТРЕБА ДА ОДГОВОРИ</a:t>
            </a:r>
            <a:r>
              <a:rPr b="0" lang="sr-Latn-CS" sz="2000" spc="-1" strike="noStrike">
                <a:solidFill>
                  <a:srgbClr val="60300c"/>
                </a:solidFill>
                <a:latin typeface="Arial Black"/>
              </a:rPr>
              <a:t> </a:t>
            </a:r>
            <a:r>
              <a:rPr b="0" lang="sr-RS" sz="2000" spc="-1" strike="noStrike">
                <a:solidFill>
                  <a:srgbClr val="60300c"/>
                </a:solidFill>
                <a:latin typeface="Arial Black"/>
              </a:rPr>
              <a:t>СУДСКОМЕДИЦИНСКА ЕКСПЕРТИЗА</a:t>
            </a:r>
            <a:r>
              <a:rPr b="0" lang="sr-Latn-CS" sz="2000" spc="-1" strike="noStrike">
                <a:solidFill>
                  <a:srgbClr val="60300c"/>
                </a:solidFill>
                <a:latin typeface="Arial Black"/>
              </a:rPr>
              <a:t> KO</a:t>
            </a:r>
            <a:r>
              <a:rPr b="0" lang="sr-RS" sz="2000" spc="-1" strike="noStrike">
                <a:solidFill>
                  <a:srgbClr val="60300c"/>
                </a:solidFill>
                <a:latin typeface="Arial Black"/>
              </a:rPr>
              <a:t>Д СМРТИ ИЗАЗВАНЕ ТРОВАЊЕМ</a:t>
            </a:r>
            <a:r>
              <a:rPr b="0" lang="sr-Latn-CS" sz="2000" spc="-1" strike="noStrike">
                <a:solidFill>
                  <a:srgbClr val="60300c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3141360"/>
            <a:ext cx="8497800" cy="37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ЈЕ ЈЕ ОТРОВНО СРЕ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ЈА ЈЕ КОЛИЧИНА ОТРОВА УНЕТА У ОРГА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АКВИ СУ УСЛОВИ ТРОВ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КАВ ЈЕ БИО ТОК ТРОВ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ОМА БРЗО, БРЗО ИЛИ УБРЗА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JI 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ПОСРЕДНИ УЗРОК СМР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А ЈЕ УЗРОЧНО-ПОСЛЕДИЧНА ВЕЗА ИЗМЕЂУ ТРОВАЊА И НЕПОСРЕДНОГ УЗРОКА СМРТИ И ОД ДРУГОГ ПАТОЛОШКОГ 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 ЛИ ЈЕ ПРЕДУЗЕТО ЛЕЧЕЊЕ, АКО ГА ЈЕ БИЛО, ДА ЛИ ЈЕ ИСПРАВНО СПРОВЕДЕНО ИТ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pesticidi2[1]"/>
          <p:cNvPicPr/>
          <p:nvPr/>
        </p:nvPicPr>
        <p:blipFill>
          <a:blip r:embed="rId1"/>
          <a:stretch/>
        </p:blipFill>
        <p:spPr>
          <a:xfrm>
            <a:off x="450072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42920" y="178596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82409"/>
                </a:solidFill>
                <a:latin typeface="Times New Roman"/>
                <a:ea typeface="Times New Roman"/>
              </a:rPr>
              <a:t>O</a:t>
            </a:r>
            <a:r>
              <a:rPr b="1" lang="sr-RS" sz="4000" spc="-1" strike="noStrike">
                <a:solidFill>
                  <a:srgbClr val="482409"/>
                </a:solidFill>
                <a:latin typeface="Times New Roman"/>
                <a:ea typeface="Times New Roman"/>
              </a:rPr>
              <a:t>трови</a:t>
            </a:r>
            <a:r>
              <a:rPr b="1" lang="hr-HR" sz="4000" spc="-1" strike="noStrike">
                <a:solidFill>
                  <a:srgbClr val="48240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hr-HR" sz="4000" spc="-1" strike="noStrike">
                <a:solidFill>
                  <a:srgbClr val="482409"/>
                </a:solidFill>
                <a:latin typeface="Times New Roman"/>
                <a:ea typeface="Times New Roman"/>
              </a:rPr>
              <a:t>(toxinum, toxina, venenus, vene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8" descr="paracelzijus.jpg"/>
          <p:cNvPicPr/>
          <p:nvPr/>
        </p:nvPicPr>
        <p:blipFill>
          <a:blip r:embed="rId2"/>
          <a:stretch/>
        </p:blipFill>
        <p:spPr>
          <a:xfrm>
            <a:off x="285840" y="3286080"/>
            <a:ext cx="414324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637000"/>
            <a:ext cx="8893080" cy="20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УЗИМАЊЕ МАТЕРИЈАЛА ЗА ТОКСИКОЛОШКУ АНАЛИЗУ</a:t>
            </a:r>
            <a:br>
              <a:rPr sz="28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33" name="Picture 4" descr="images[59]"/>
          <p:cNvPicPr/>
          <p:nvPr/>
        </p:nvPicPr>
        <p:blipFill>
          <a:blip r:embed="rId1"/>
          <a:stretch/>
        </p:blipFill>
        <p:spPr>
          <a:xfrm>
            <a:off x="1908000" y="400536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ЗИМАЊЕ МАТЕРИЈАЛА ЗА ТОКСИКОЛОШКУ АНАЛИЗУ ОД ЖИВИХ ОСОБ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857680"/>
            <a:ext cx="7772400" cy="354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ЕМИЈСКИ ЧИСТ ПОСТУПАК И ХЕМИЈСКИ ЧИСТЕ ПОСУДЕ ХЕРМЕТИЧКИ ЗАТВОРЕНЕ, БЕЗ КОНЗЕРВАНСА.УЗОРЦИ СЕ ЧУВАЈУ У ФРИЖИДЕРУ НА ТЕМПЕРАТУ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4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ЕПЕНА ЦЕЛЗЈУСА АКО ЈЕ НА ДУЖЕ ВРЕМЕ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20◦C.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АВЕЗНИ СУ ИДЕНТИФИКАЦИОНИ ПАРАМЕ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КРВ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УЗИМА У ДВЕ ЕПРУВЕТЕ 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0-5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 ПРАВИЛУ ИЗ КУБИТАЛНЕ ВЕНЕ  ПОМОЋУ МЕДИЦИНСКОГ ШПР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ЈБОЉЕ ВЕНУЛ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КО СЕ КРВ УЗИМА РАДИ АНАЛИЗЕ НА АЛКОХ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ЛИ ДРУГИ ИСПАРЉИ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ОТРОВ МОЖЕ СЕ 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 КРВИ ДОДАТИ АНТИКОАГУЛАН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ПР. НАТРИЈУМ ФЛУОРИД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ТРИЈУМ ЦИТР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, 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УГУ ПОРЦИЈУ ОСТАВИТИ БЕЗ ДОДАТ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ЗИМАЊЕ МАТЕРИЈАЛА ОД ЖИВИХ ОСОБ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МОКРАЋ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СЕ УЗИМА У КОЛИЧИНИ КОЈА ЈЕ МОГУ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ПТИМАЛНА КОЛИЧИНА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 А НАЈБОЉЕ ЈЕ УЗЕТИ МОКРАЋУ У ПОРЦИЈАМА У РАЗМАК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С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ПОВРАЋЕНИ САДРЖАЈ И СТОЛ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КОЛИЧИНИ ОД 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ЗИМА ИСЕЦАЊЕМ У КОЛИЧ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ВЕЖЕ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ПАКУЈЕ СЕ У ЧИСТЕ ПАПИ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НОК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СЕ УЗИМАЈУ СЕЧЕЊЕМ У МОГУЋОЈ КОЛИЧ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И ПАКУЈУ КАО И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К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ЦЕРЕБРОСПИНАЛНА ТЕ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СУМЊИ НА НЕКЕ ОБЛИКЕ НАРКОМА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ОЖЕ СЕ УЗЕТИ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БРИС СЛУЗНИЦЕ НОС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72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ЗИМАЊЕ УЗОРАКА СА ЛЕШЕВ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ДУКЦИОНИ ПРИБОР МОРА БИТИ ХЕМИЈСКИ ЧИ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ГАНИ СЕ НЕ СМЕЈУ ИСПРАТИ В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 СПРЕМАЊЕ ОРГАНА СУ НАЈПОГОДНИЈЕ ПОСУДЕ ОД О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100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 СЕ ХЕМИЈСКА АНАЛИЗА НЕ РАДИ БРЗО ОНДА СЕ ЗАМРЗАВАЈУ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2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ЕПЕНИ ЦЕЛЗЈУ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 ИЗ ЛЕША ТРАБА УЗЕТИ ИЗ БУТНЕ ВЕНЕ У ДВЕ ЕПРУВЕ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-2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A AKO JE TAM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ДОВОЉ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ОНДА СЕ МОЖЕ УЗЕТИ ИЗ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КАКАВ КОНЗЕРВАНС ОСИМ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,5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 НАТРИЈУМ ФЛУОРИ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50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И КАДА СЕ ИЗРАЗИ СУМЊА НА ТРОВАЊЕ ЦИЈАНИДИМА СЕ НЕ ДОДА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</a:rPr>
              <a:t>ИНАЧЕ ЗА АНАЛИЗУ СЕ УЗИМА ИСТИ САДРЖАЈ КАО КОД ЖИВИХ, ИЗУЗЕВ ШТО ЈЕ МОГУЋЕ УЗЕТИ И ТЕЧНОСТ СТАКЛАСТОГ ТЕЛА, ЖУЧ, ТЕ ТКИВА И ДЕЛОВЕ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ЗИМАЊЕ УЗОРАКА СА ЛЕШЕВ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ГАНИ ЛЕША ЗА ХЕМИЈСКОТОКСИКОЛОШКУ АНАЛИЗУ У КОЛИЧИНУ ОД 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АЗ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О ПЛУЋА, СРЦА И СЛЕ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О ЈЕТРЕ И ЖУЧНЕ КЕ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А 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MO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АЋА И МОКРАЋНА БЕШ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О ЖЕЛУЦА И ЊЕГОВОГ САДР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О ТАНКОГ И ДЕБЕЛОГ ЦРЕВА СА САДРЖАЈ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Д ЕКСХУМИРАНИХ ЛЕШЕВА МОРА СЕ УЗЕТИ ЈОШ И УЗОРАК ЗЕМЉЕ ИСПОД И ИЗНА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МРТВАЧКОГ САНДУКА И СА УДАЉЕНОГ МЕСТА ОД НЕКОЛИКО МЕТАРА У КОЛИЧ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-3 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O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БЛИЦИ И КАРАКТЕР ТРОВАЊА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ема времену настанк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еркутна, акутна, субакутна и хрони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ема крајњој штетној последи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смртна и смрт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о каракте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амоубилачка, задесна и убила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Подела отрова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2571840"/>
            <a:ext cx="8964720" cy="38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87000"/>
          </a:bodyPr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агрегатно с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асовити, течни и чвр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орекл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биљни, животињски и синте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аста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органски и неорга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чин 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окални: јетки 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дражај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ао и отрови са ресорптивним дејством: паренхимни, крвни и нерв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чин коришћ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алацио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игес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јекцио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псорпцио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т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естици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житни отр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Ko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розивни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-j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етки отрови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центроване кисел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ли тешких мета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неке индустријск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Локално оштећење ткива коже и слузница унутрашњих орган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Промене зависе од количине и концентрације отрова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!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3123720"/>
            <a:ext cx="892800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ногокрв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ток и црвенило коже или слузок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умирање и отпадање наткожице или слуз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варање мрлина кожице и слузнице крвним изливима и згрушавањем кр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арање ткива и стварање дефекта испод коже и слуз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Неорганске базе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квациона нек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атријум хидроксид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NaOH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масна или камена сод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мртоносна д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0-20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 чис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 облику раствора отровност почиње са раствор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0,5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 1%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ок су раство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5 %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узетно опас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264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258920" y="1484280"/>
            <a:ext cx="619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ПОВРЕДЕ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OXICATIONES CHEMICAE)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ПОВРЕДЕ ИЗАЗВАНЕ ХЕМИЈСКИМ СРЕДСТВИМА-ОТРОВИМА, ЊИХОВИМ ХЕМИЈСКИМ ИЛИ ХЕМИЈСКО-ФИЗИЧК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8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Начин дејства отрова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-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базе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256500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81000"/>
          </a:bodyPr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елују хидроксилни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OH)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о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мекшање и растварање беланчев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ликв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лкални албуми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емоглоб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кални хема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лузокожа љигава, мека, смеђецрвене б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квациона некр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хвата све слојеве зидова дигестивног трак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ерфорација једњ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елуца и цр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сорпција б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кал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Неорганске и органске киселине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гулациона нек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лороводонична или сон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C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мпорн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 азотн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ирћетна киселина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CH</a:t>
            </a:r>
            <a:r>
              <a:rPr b="1" lang="sr-Latn-R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Начин дејства отрова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-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киселине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2857680"/>
            <a:ext cx="8856720" cy="354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елују ослобађањем водоникових ј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одоникови јони одузимају течност тки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агулација беланчев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исели албуми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емоглоб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исели хема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лузокоже су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рице сивка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асније мрке или мркоцрвене б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агулациона накр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хватају мукозу и тунику мускулар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сорпција кисел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цид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esencija 1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esencija 4"/>
          <p:cNvPicPr/>
          <p:nvPr/>
        </p:nvPicPr>
        <p:blipFill>
          <a:blip r:embed="rId2"/>
          <a:stretch/>
        </p:blipFill>
        <p:spPr>
          <a:xfrm>
            <a:off x="6178680" y="1413000"/>
            <a:ext cx="2987640" cy="335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esencija 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2349360"/>
            <a:ext cx="9036000" cy="405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мрт може д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аступи на лицу мест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след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шок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 касније услед компл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јчешће компликације су перфорације шупљих орган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ронхопнеумониј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пс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што касније и бубрежна инсуфициј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ПОСТОЈИ ХРОНИЧНО ТР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-360" y="2923920"/>
            <a:ext cx="8458200" cy="34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НЕ РАДЕ СЕ ХЕМИЈСКОТОКСИКОЛОШКЕ АН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ТАНАТОЛОШКИ НАЛАЗ СПЕЦИФИЧ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ЗАДЕС, САМОУБИ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ржава је забранила слободну продају ових средстава. У слободној продаји се могу наћи само сона киселина и концентрована сирћетна киселина-ес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РОВАЊЕ ПЕСТИЦИДАМА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64" name="Picture 6" descr="pesticidi[1]"/>
          <p:cNvPicPr/>
          <p:nvPr/>
        </p:nvPicPr>
        <p:blipFill>
          <a:blip r:embed="rId1"/>
          <a:stretch/>
        </p:blipFill>
        <p:spPr>
          <a:xfrm>
            <a:off x="249120" y="3716280"/>
            <a:ext cx="335916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  <p:pic>
        <p:nvPicPr>
          <p:cNvPr id="165" name="Picture 5" descr="gmo1"/>
          <p:cNvPicPr/>
          <p:nvPr/>
        </p:nvPicPr>
        <p:blipFill>
          <a:blip r:embed="rId2"/>
          <a:stretch/>
        </p:blipFill>
        <p:spPr>
          <a:xfrm>
            <a:off x="3708360" y="3124080"/>
            <a:ext cx="5184720" cy="30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7000"/>
          </a:bodyPr>
          <a:p>
            <a:pPr marL="591120" indent="-5911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ГАНОФОСФОРНА ЈЕДИЊ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РИ ФОСФОРНЕ И ТИОФОСФОРНЕ 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ВОБИТНА НА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НТЕЗА НЕРВНИХ БОЈНИХ ОТР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Р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T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УНА И СОМА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ЕДСТАВНИК ГРУП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ПАРАТИОН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(E-605, EK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АТОКС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ФОЛИДОЛ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ПАРАН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ФОСФЕРН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 40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И ДР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ЧИН ПРИ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АКТНИ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СТЕМСКИ И ИНХАЛАЦИОНИ ОТРО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ЛИК У КОМЕ СЕ ПРИМЕЊУЈЕ: ПРАШАК, СУСПЕНЗИЈА, ЕМУЛ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ПРОДАЈИ У ОБЛИКУ ЖУ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МЕЂЕ ТЕЧ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РИСА НА ЦРНИ ЛУК И ПЕТРОЛЕ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ПУТЕВИ УНОШЕЊА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2852640"/>
            <a:ext cx="449568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ЕРОР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д самоубилачких и убилачких тровањ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д задеса прљавим рук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ХАЛАЦИЈ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д задеса у индустрији и пољопривре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КО К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задес у индустрији и пољопривре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images[32]"/>
          <p:cNvPicPr/>
          <p:nvPr/>
        </p:nvPicPr>
        <p:blipFill>
          <a:blip r:embed="rId1"/>
          <a:stretch/>
        </p:blipFill>
        <p:spPr>
          <a:xfrm>
            <a:off x="395280" y="2852640"/>
            <a:ext cx="3960720" cy="36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276640"/>
            <a:ext cx="9036000" cy="44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TO</a:t>
            </a:r>
            <a:r>
              <a:rPr b="0" lang="sr-RS" sz="3200" spc="-1" strike="noStrike">
                <a:solidFill>
                  <a:srgbClr val="00b050"/>
                </a:solidFill>
                <a:latin typeface="Arial"/>
              </a:rPr>
              <a:t>КСИКОЛОГИЈА</a:t>
            </a:r>
            <a:r>
              <a:rPr b="0" lang="sr-Latn-R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ука која проучава штетност деловања хемијских супстанци на организам и механизам тог дел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b050"/>
                </a:solidFill>
                <a:latin typeface="Arial"/>
              </a:rPr>
              <a:t>K</a:t>
            </a:r>
            <a:r>
              <a:rPr b="0" lang="sr-RS" sz="3200" spc="-1" strike="noStrike">
                <a:solidFill>
                  <a:srgbClr val="00b050"/>
                </a:solidFill>
                <a:latin typeface="Arial"/>
              </a:rPr>
              <a:t>ЛИНИЧКА ТОКСИКОЛОГИЈА</a:t>
            </a:r>
            <a:r>
              <a:rPr b="0" lang="sr-Latn-RS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јагностика тровања и 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b050"/>
                </a:solidFill>
                <a:latin typeface="Arial"/>
              </a:rPr>
              <a:t>ФОРЕНЗИЧКА ТОКСИКОЛОГИЈ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удскомедицински аспекти тровања уоп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3352320"/>
            <a:ext cx="355896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ПОРЕКЛО ТР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д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моубилач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билач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pesticidi"/>
          <p:cNvPicPr/>
          <p:nvPr/>
        </p:nvPicPr>
        <p:blipFill>
          <a:blip r:embed="rId1"/>
          <a:stretch/>
        </p:blipFill>
        <p:spPr>
          <a:xfrm>
            <a:off x="4284720" y="1989000"/>
            <a:ext cx="4103640" cy="453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03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НАЧИН ДЕЈСТВА</a:t>
            </a:r>
            <a:br>
              <a:rPr sz="3200"/>
            </a:b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ПОЛИЕНЗИМСКИ ОТРОВ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3124080"/>
            <a:ext cx="8928000" cy="342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ција холинестера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гомилавање ацетилхолина на свим местима на којим је физиолошки омогућено преношење нервних импул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злучени ацетилхолин се накупља у синапсама вегетативног и централног нервног система као и у моторним плоч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0360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СИМПТОМИ ТРОВАЊА СЕ ЈАВЉАЈУ КАДА СЕ АКТИВНОСТ ХОЛИНЕСТЕРАЗЕ СМАЊИ НА ОКО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 30 % O</a:t>
            </a: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Д НОРМАЛНЕ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ција у вегетативном нервном систему доводи до миозе, саливације, знојења, појачане перисталтике црева, колике и дијареја, појачана секреција слузи у бронхијалном стаблу и бронхоспазам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-због дејства отрова преовлађује функција парасимпатичког дела вегетативног нерв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рајући холинестеразу у моторним плочама органофосфати узрокују настанак фасцикулација скелетних мишић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бог инхибиције холинестеразе у ЦНС-у настају немир, конвулзије и депресија дис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мрт настаје услед респираторне инсуфицијенције због бронхоспазма, парализе дијафрагме и централне депресије дис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14200" y="2060640"/>
            <a:ext cx="8715600" cy="43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троп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као компетитивни антагонист ацетил-холина и оксимски препарати. Отрованом се даје атропин до појаве тзв. атропинизације (појава мидријазе и тахикард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ТОЛОШКО-АНАТОМСКЕ ПРО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карактеристичне и неспецифичне. Током обдукције може се осетити карактеристичан мир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КАЗИВАЊЕ 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 методологији која важи и за друга тровања. Хемијско-токсиколошком анализом у зависности од тога колико дуго је особа надживљавала тровање може се одредити активност холинестеразе у се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0" y="1980720"/>
            <a:ext cx="9144000" cy="327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8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браонкаста течност, алкалоид добијен из лишћа дувана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ао четрдесетопроцентни раствор користи се као инсектиц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убилачка и задесна тровања  Обично се уноси орално, али и утрљавањем у кожу и инха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линички симптоми у вид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дикардије, наузеје, повраћања, колика, дијареје, хиперсаливације, као и фасцикулац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гурија до анур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ном депресијом дисања, парализом миши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дукцијо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једин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емијско-токсиколошки се доказује у мокраћи, излучује се непромењ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4400" y="0"/>
            <a:ext cx="7005600" cy="19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5120" y="2852640"/>
            <a:ext cx="594360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РОВАЊЕ АРСЕНОМ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ПАДА ГРУПИ РЕСОРПТИВНИХ ОТРОВА, СА ОПШТИМ ДЕЈСТВОМ И ТО ПРЕТЕЖНО НА ПАРЕНХИМНЕ ОРГ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CAVE87VL"/>
          <p:cNvPicPr/>
          <p:nvPr/>
        </p:nvPicPr>
        <p:blipFill>
          <a:blip r:embed="rId1"/>
          <a:stretch/>
        </p:blipFill>
        <p:spPr>
          <a:xfrm>
            <a:off x="4067280" y="333360"/>
            <a:ext cx="403380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ПРИМЕНА АРСЕНА</a:t>
            </a: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852640"/>
            <a:ext cx="442764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УСТР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УМАРСТ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ЉОПРИВРЕ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НАТСТ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УСТРИЈА СТАК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ЊА БО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Л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ЗЕРВИРАЊЕ ДРВ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ПАРИРАЊА ПТИЦА И ЖИВОТИ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НИШТАВАЊЕ ШТЕТОЧ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CA6NKZXY"/>
          <p:cNvPicPr/>
          <p:nvPr/>
        </p:nvPicPr>
        <p:blipFill>
          <a:blip r:embed="rId1"/>
          <a:stretch/>
        </p:blipFill>
        <p:spPr>
          <a:xfrm>
            <a:off x="4859280" y="2924280"/>
            <a:ext cx="381636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453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РСЕНИ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ЛИ АРСЕНИ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АРСЕН-ТРИОКСИД,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ИШОМ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МЕНА КРОЗ ВЕК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QUA TOFANA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МА ТРОВАЧИЦИ ЂУЛИЈИ ТОФ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XVI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QUETTA DI PERUGIA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КУЋИ БОРЏ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AU DE MIRABLE, POUDRE DE SUCCESION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АШАК ЗА НАСЛ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ОПОЛД АУСТРИЈ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1705)→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ХАЛИРАЊЕ ИСПАРЕЊА АРСЕНА ДОДАТОГ ВОСКУ СВЕЋЕ (ОСЛОБАЂАО СЕ ПРИ САГОРЕВАЊУ СВЕЋ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ИЗИЧКЕ И ХЕМИЈСКЕ ОСОБ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ЕЛИ ПРАШ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ЕЗ УКУСА И МИРИ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ЕШКО СЕ РАСТВАРА У ВО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АКШЕ У АЛКОХО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АЧИН УНОШЕЊ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R OS –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МЕШАН СА ХРАНОМ И АЛКОХОЛНИМ ПИЋ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ХАЛАЦИЈОМ АРСЕНОВЕ ПРАШИНЕ И ИСПАР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КО КОЖ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САНО ЈЕ УНОШЕЊЕ ПРЕКО ОДЕЋЕ ПОСУТЕ АРС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844640"/>
            <a:ext cx="9144000" cy="455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органске или органске супстанце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е налазе у појединим биљкама, отровима неких гмизаваца, инсеката, риба, медуз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тали или металоид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 има у природи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истом стању или су везани са другим слични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ма у различитим минералим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лусинтетски и синтетски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различитих на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ети у организам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</a:t>
            </a: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ређеним путем</a:t>
            </a:r>
            <a:r>
              <a:rPr b="1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</a:t>
            </a: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 одређеној количини</a:t>
            </a:r>
            <a:r>
              <a:rPr b="1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</a:t>
            </a:r>
            <a:r>
              <a:rPr b="1" lang="sr-R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центрацији или облику изазивају оштећење здравља или см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136000" cy="43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0000"/>
          </a:bodyPr>
          <a:p>
            <a:pPr marL="548280" indent="-5482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ИЗЛУЧИВ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УБРЕЗИ, ЦРЕВА, МЛЕ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ЗЛУЧИВАЊЕ СПО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CAVE !!!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УМУЛА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ЧИН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ХИБИРА КРЕБСОВ ЦИКЛУС НА НАЈМАЊЕ ДВА  МЕСТА. ИНХИБИРА ПИРУВАТ-ДЕХИДРОГЕНАЗУ (ВЕЗУЈЕ СЕ ЗА ЊЕНЕ СУЛФИХДРИЛНЕ ГРУП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ЕЗУЈЕ СЕ ЗА АДЕНОЗИН ДИФОСФАТ УМЕСТО ЊЕНЕ ФОСФОРНЕ ГРУПЕ ТАКО ДА СМАЊУЈЕ КОНЦЕНТРАЦИЈУ АДЕНОЗИН ТРИФОСФАТА У ЋЕЛИЈ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АКТИВИРА ЈОШ ОКО ДВЕСТА ЕНЗИМА У ЋЕЛИЈ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МРТНА 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АЊА ЈЕ ОД ПОЛА ГРАМА ЧИСТЕ СУПСТА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9000"/>
          </a:bodyPr>
          <a:p>
            <a:pPr marL="603360" indent="-6033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ЗАДЕСНО (НАЈЧЕШ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УБИЛАЧ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АМОУБИЛАЧ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ДЕСНО ТРОВАЊЕ У ЕНГЛЕСК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00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T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 000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МРЛ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ЗРОК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ИСУСТВО АРСЕНА У СУМПОРНОЈ КИСЕЛИНИ КОРИШЋЕНОЈ ЗА ПРОИЗВОДЊУ ГЛУКОЗЕ ПРИ СПРАВЉАЊУ 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К ТР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УТ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УБАКУ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РОН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0300c"/>
                </a:solidFill>
                <a:latin typeface="Arial Black"/>
              </a:rPr>
              <a:t>КЛИНИЧКА СЛИКА</a:t>
            </a:r>
            <a:r>
              <a:rPr b="1" lang="sr-Latn-CS" sz="2800" spc="-1" strike="noStrike">
                <a:solidFill>
                  <a:srgbClr val="60300c"/>
                </a:solidFill>
                <a:latin typeface="Arial Black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-360" y="4005360"/>
            <a:ext cx="899172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c00000"/>
                </a:solidFill>
                <a:latin typeface="Arial"/>
              </a:rPr>
              <a:t>КОД АКУТНОГ И СУБАКУТНОГ ТРОВ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ВИ СИМПТОМИ СЕ ЈАВЉАЈУ 30-ТАК МИН. НАКОН УНОШЕЊА: МЕТАЛНИ УКУС, СУВОЋА, ДИСФАГИЈА, ПОВРАЋАЊЕ, КОЛИКЕ, ДИЈАРЕЈА СА ТЕШКОМ ХИПОВОЛЕМИЈОМ И КОНВУЛЗИЈАМА И АКУТНА РЕНАЛНА ИНСУФИЦИЈЕНЦИЈА ЗБОГ ХИПОВОЛЕМ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c00000"/>
                </a:solidFill>
                <a:latin typeface="Arial"/>
              </a:rPr>
              <a:t>КОД ХРОНИЧНОГ ТРОВАЊА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СТАЈУ КОЖНЕ ПРОМЕНЕ У ВИДУ ДИЛАТАЦИЈЕ КАПИЛАРА, ЕРИТЕМА, ХИПЕРКЕРАТОЗЕ, АЛОПЕЦИЈЕ И МЕЛАНОЗЕ КАСНИЈЕ АНЕМИЈА, НЕУР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2133360"/>
            <a:ext cx="813564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РОНИЧНО ТРО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СЕНИЦ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ЉА СЕ НАЈЧЕШЋЕ У ИНДУСТР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НИЧКИ ЗНА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РОНИЧНИ КАТАР СЛУЗОКОЖЕ ОЧ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СПИРАТОРНОГ И ДИГЕСТИВНОГ ТРАК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c00000"/>
                </a:solidFill>
                <a:latin typeface="Arial"/>
              </a:rPr>
              <a:t>. АРСЕНСКИ ГРИ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 СТРАНЕ КВ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ЈАНОЗА ПЕРИФЕРНИХ ДЕЛОВА Т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M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АКСАЛ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ЈЕТРИ И БУБРЕЗИМА ДЕГЕНЕРАТИВНИ ПРОЦЕСИ ОДМАКЛОГ СТАД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ВЕЋАНА И ЧВРСТА ЈЕ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БУМИНУР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КОЖИ ХИПЕРПИГМЕНТАЦИЈА У ПРЕДЕЛУ ОБРВА, НА ТРБУХУ, ВРАТУ И УДОВ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c00000"/>
                </a:solidFill>
                <a:latin typeface="Arial"/>
              </a:rPr>
              <a:t>РСЕНОВА МЕЛА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ДЛАНОВИМА И ТАБАН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ПЕРКЕРАТ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НЕКАДА ПЕРФОРАЦИЈА НОСНЕ ПРЕГРА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799308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ПОНОВАЊЕ АРСЕНА У СВИМ КЕРАТИНСКИМ ТКИВИМА-КОСА, НО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НОКТИМА ПОПРЕЧНЕ ЛИ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MEES-OV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АТОЛОШКОАНАТОМСКИ НАЛАЗ КОД АКУТНОГ ТР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СПЕЦИФИЧНЕ ПРОМЕНЕ АЛИ КАРАКТЕРИСТИЧ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ЖЕЛУЦУ ДЕЛИЋИ НЕРАСТВОРЕНОГ И НЕРЕСОРБОВАНОГ ОТР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ЕМОРАГИЧНИ ГАСТРОЕНТЕ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КСТРЕМНИ ГУБИТАК ТЕЧНОСТИ КРОЗ ГАСТРОИНТЕСТИНАЛНИ ТРАК МОЖЕ ДОВЕСТИ ДО ХИПОВОЛЕМИЈСКОГ ШОКА А ОНДА СЕ РАЗВИЈАЈУ СУБЕНДОКАРДНЕ СУФУ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ДОКАЗИВАЊЕ ТРОВАЊА АРСЕНОМ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772400" cy="30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ДУКЦИОНИ НА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ОКСИКОЛОШКА АНАЛИЗА ОРГ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 И НОКТ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СЕНА ИМА НОРМАЛНО У ПОЈЕДИНИМ ТИПОВИМА ЗЕМЉИШ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БОЈИ КОВЧЕГА И ВЕШТАЧКОМ ЦВЕЋ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 АНАЛИЗУ СЕ УЗИМАЈУ ДЕЛОВИ ОВИХ ПРЕДМЕТА И ЗЕМЉИШ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ЗНАТА КЛАСИЧНА МЕТОДА ТОКСИКОЛОШКОГ УТВРЂИВАЊА АРС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– M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ШЕОВА ПРОБА 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836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РОВАЊЕ УГЉЕНМОНОКСИДОМ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O"/>
          <p:cNvPicPr/>
          <p:nvPr/>
        </p:nvPicPr>
        <p:blipFill>
          <a:blip r:embed="rId1"/>
          <a:stretch/>
        </p:blipFill>
        <p:spPr>
          <a:xfrm>
            <a:off x="900000" y="2478240"/>
            <a:ext cx="7344000" cy="43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4920" y="3428640"/>
            <a:ext cx="8064360" cy="23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 J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ГАС БЕЗ БОЈЕ, МИРИСА И УК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АКШИ ОД ВАЗДУХ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ПЕЦИФИЧНА ТЕЖ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0,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АЈЕ НЕПОТПУНИМ САГОРЕВАЊЕМ ОРГАНСКИХ МАТЕРИЈА У ПЕЋИМА, У ПОЖАРУ, МОТОРИМА СА УНУТРАШЊИМ САГОРЕВАЊЕМ, РУДНИЦИМА ИТ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20040331_s_tovaren-zavod-fabrika-dym-emisie-komin-znecistovanie-ekologia-zapad-slnka[1]"/>
          <p:cNvPicPr/>
          <p:nvPr/>
        </p:nvPicPr>
        <p:blipFill>
          <a:blip r:embed="rId1"/>
          <a:stretch/>
        </p:blipFill>
        <p:spPr>
          <a:xfrm>
            <a:off x="3419640" y="33480"/>
            <a:ext cx="453852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424836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РМАЛНО СЕ НАЛАЗИ У КОЛИЧИНИ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% KA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ИЗВОД ФИЗИОЛОШКЕ РАЗГРАДЊЕ СУПСТАНЦИ КОЈЕ САДРЖЕ Х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РФИРИНСКИ ДЕО ХЕМОГЛО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krv"/>
          <p:cNvPicPr/>
          <p:nvPr/>
        </p:nvPicPr>
        <p:blipFill>
          <a:blip r:embed="rId1"/>
          <a:stretch/>
        </p:blipFill>
        <p:spPr>
          <a:xfrm>
            <a:off x="4643280" y="2492280"/>
            <a:ext cx="4176720" cy="396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971640" y="501336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9325080" cy="46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ЗВОЉЕНА КОЛИЧ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РАДНИМ ПРОСТОР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0,00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Arial"/>
              </a:rPr>
              <a:t>ТОКСИЧНИ ЕФЕКТИ НАСТАЈУ ПРИ  КОНЦЕНТРАЦИЈИ ОД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0,5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 1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ДИСАЊЕ ОВОГ ГАСА У КОНЦЕНТРАЦИЈИ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 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ПРОСТОРИЈАМА У ТРАЈАЊУ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 2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НУТА МОЖЕ ДА БУДЕ ФАТ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ДИС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КОНЦЕНТРАЦИЈИ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 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РОКУ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ВОДИ ДО ГУБИТКА СВЕСТИ И СМР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c00000"/>
                </a:solidFill>
                <a:latin typeface="Arial"/>
              </a:rPr>
              <a:t>У ГАРАЖИ КОЈА ЈЕ ЗАТВОРЕНА ИЗДУВНИ ГАСОВИ ПРИ РАДУ МОТОРА ДОСТИЖУ ЛЕТАЛНЕ ВРЕДНОСТИ ВЕЋ ЗА 5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toxina2"/>
          <p:cNvPicPr/>
          <p:nvPr/>
        </p:nvPicPr>
        <p:blipFill>
          <a:blip r:embed="rId1"/>
          <a:stretch/>
        </p:blipFill>
        <p:spPr>
          <a:xfrm>
            <a:off x="684360" y="3213000"/>
            <a:ext cx="3816360" cy="3240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0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RS" sz="2800" spc="-1" strike="noStrike">
                <a:solidFill>
                  <a:srgbClr val="60300c"/>
                </a:solidFill>
                <a:latin typeface="Times New Roman"/>
                <a:ea typeface="Times New Roman"/>
              </a:rPr>
              <a:t>Животињског су порекла отрови змија, паука, оса, пчела, шкорпија, медуза</a:t>
            </a:r>
            <a:r>
              <a:rPr b="1" lang="sr-Latn-CS" sz="2800" spc="-1" strike="noStrike">
                <a:solidFill>
                  <a:srgbClr val="60300c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04" name="Picture 10" descr="tetrodotoxina_peixe"/>
          <p:cNvPicPr/>
          <p:nvPr/>
        </p:nvPicPr>
        <p:blipFill>
          <a:blip r:embed="rId2"/>
          <a:stretch/>
        </p:blipFill>
        <p:spPr>
          <a:xfrm>
            <a:off x="4643280" y="3213000"/>
            <a:ext cx="410544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4495680" cy="46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ОРГАНИЗАМ СЕ УНОСИ ИСКЉУЧИВО УДИСАЊ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НИ ОТРОВ КОЈИ 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0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 30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УТА ВЕЋИ АФИН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Hb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 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ВАРАЈУЋИ КАРБОКСИХЕМОГЛОБИН И НА ТАЈ НАЧИН ОНЕМОГУЋАВА ТРАНСПОРТ КИСЕОНИКА У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ЋЕЛИЈАМА СЕ ВЕЗУЈЕ ЗА ЦИТОХРОМ ОКСИДАЗУ ЧИМЕ СПРЕЧАВА ДИСАЊЕ НА НИВОУ ЋЕЛИЈЕ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krv"/>
          <p:cNvPicPr/>
          <p:nvPr/>
        </p:nvPicPr>
        <p:blipFill>
          <a:blip r:embed="rId1"/>
          <a:stretch/>
        </p:blipFill>
        <p:spPr>
          <a:xfrm>
            <a:off x="4643280" y="2060640"/>
            <a:ext cx="410544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525600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РЕКЛО ТРО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ДЕ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АМОУБИЛАЧ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БИЛАЧ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 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КУ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УЗЕТНО ХРОНИЧНО, КОД ПУШАЧА И ИНДУСТ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cigare1234[1]"/>
          <p:cNvPicPr/>
          <p:nvPr/>
        </p:nvPicPr>
        <p:blipFill>
          <a:blip r:embed="rId1"/>
          <a:stretch/>
        </p:blipFill>
        <p:spPr>
          <a:xfrm>
            <a:off x="5580000" y="38606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КЛИНИЧКА СЛИКА У КОРЕЛАЦИЈИ СА КОНЦЕНТРАЦИЈОМ КАРБОКСИХЕМОГЛОБИНА</a:t>
            </a: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 (COHb) 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 КРВИ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4076640"/>
            <a:ext cx="4968720" cy="232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ОНЦЕНТРАЦИЈА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30 % -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УЛСИРАЈУЋА ГЛАВОБОЉ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АЋЕНА ЗУЈАЊЕМ У УШИМ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НАМИЈА КОЈА ОНЕМОГУЋАВ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АМОСПАСАВ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СПАН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11_1"/>
          <p:cNvPicPr/>
          <p:nvPr/>
        </p:nvPicPr>
        <p:blipFill>
          <a:blip r:embed="rId1"/>
          <a:stretch/>
        </p:blipFill>
        <p:spPr>
          <a:xfrm>
            <a:off x="5435640" y="3429000"/>
            <a:ext cx="331308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4360" y="2781360"/>
            <a:ext cx="7991280" cy="361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ОНЦЕНТРАЦИЈА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35 – 50 % -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ГУБИТАК СВЕСТИ ПРАЋЕН ТОНИЧКИМ И КЛОНИЧКИМ ГРЧЕВИМА, ОТЕЖАНО ДИСАЊЕ, ПОЈАВА ПАТОЛОШКИХ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ОНЦЕНТРАЦИЈА ИЗНА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60 % JE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МРТОНО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c00000"/>
                </a:solidFill>
                <a:latin typeface="Arial"/>
              </a:rPr>
              <a:t>ЧОВЕК УМИРЕ ОНДА КАД 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 JE </a:t>
            </a:r>
            <a:r>
              <a:rPr b="1" lang="sr-RS" sz="2000" spc="-1" strike="noStrike">
                <a:solidFill>
                  <a:srgbClr val="c00000"/>
                </a:solidFill>
                <a:latin typeface="Arial"/>
              </a:rPr>
              <a:t>ДВЕ ТРЕЋИНЕ ИЛИ ПОЛОВИНА ЊЕГОВОГ ХЕМОГЛОБИНА ВЕЗАНА СА УГЉЕНМОНОКСИДОМ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9920" y="1844280"/>
            <a:ext cx="754380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60300c"/>
                </a:solidFill>
                <a:uFillTx/>
                <a:latin typeface="Arial Black"/>
              </a:rPr>
              <a:t>O</a:t>
            </a:r>
            <a:r>
              <a:rPr b="0" lang="sr-RS" sz="3200" spc="-1" strike="noStrike" u="sng">
                <a:solidFill>
                  <a:srgbClr val="60300c"/>
                </a:solidFill>
                <a:uFillTx/>
                <a:latin typeface="Arial Black"/>
              </a:rPr>
              <a:t>БДУКЦИОНИ НАЛАЗ</a:t>
            </a:r>
            <a:r>
              <a:rPr b="0" lang="sr-Latn-CS" sz="3200" spc="-1" strike="noStrike" u="sng">
                <a:solidFill>
                  <a:srgbClr val="60300c"/>
                </a:solidFill>
                <a:uFillTx/>
                <a:latin typeface="Arial Black"/>
              </a:rPr>
              <a:t>: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9920" y="3141720"/>
            <a:ext cx="7543800" cy="31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ЕТЛОЦРВЕНЕ МРТВАЧКЕ МР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ВЕТЛОЦРВЕНКАСТА БОЈА КРВИ ИЛИ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МНОГОКРВНОСТ ВЕЗ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АЧКАСТА КРВАРЕЊА НА ВЕЗНИЦАМ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ПЛЕУРИ И ПЕРИКАР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01 boja krv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02 crvene mrl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7632720" cy="33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 МОЗГУ ХИПЕРЕМИЈА И Е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KO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ЈЕ ПРОТЕКЛО ВИШЕ ВРЕМЕНА ОД ПОЧЕТКА ТРОВАЊА ПА ДО СМРТИ НАЛАЗЕ СЕ ТАЧКАСТА КРВАРЕЊА У ПРЕДЕЛУ ЛЕНТИФОРМНИХ ЈЕДАРА А ПОНЕКАДА И У БЕЛОЈ МАСИ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АРБОКСИХЕМОГЛОБИН МОЖЕ ДА СЕ ДОКАЖЕ И НА ЕКСХУМИРАНИМ ЛЕШЕВИМА ЧАК И ГОДИНУ ДАНА ПОСЛЕ СМ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4643280" cy="46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РОВАЊЕ  УГЉЕНДИОКС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O2 JE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ОРМАЛАН САСТОЈАК АТМОСФЕРСКОГ ВАЗДУХА И ФИЗИОЛОШКИ ЈЕ СТИМУЛАТОР ЦЕНТРА ЗА ДИС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 САМ ПО СЕБИ НИЈЕ ОТРОВ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ЛИ ПРИ НАГОМИЛАВАЊУ У ОГРАНИЧЕНОМ ПРОСТОРУ СМАЊУЈЕ КОНЦЕНТРАЦИЈУ КИСЕОНИКА ПА ЈЕ У ТОМЕ ЊЕГОВА 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sl_vazduh_2[1]"/>
          <p:cNvPicPr/>
          <p:nvPr/>
        </p:nvPicPr>
        <p:blipFill>
          <a:blip r:embed="rId1"/>
          <a:stretch/>
        </p:blipFill>
        <p:spPr>
          <a:xfrm>
            <a:off x="4572000" y="2060640"/>
            <a:ext cx="4392720" cy="46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3141720"/>
            <a:ext cx="4245120" cy="34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СТАЈЕ РАСПАДАЊЕМ И ВРЕЊЕМ ОРГАНСКИХ МАТЕРИЈА ПА ТРОВАЊА НАСТАЈУ У СЕПТИЧКИМ ЈАМАМА, ВИНСКИМ ПОДРУМИМА, ДУБОКИМ БУНАРИМА, АЛИ И У ЦИСТЕРНАМА, СИЛОСИМА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slika1"/>
          <p:cNvPicPr/>
          <p:nvPr/>
        </p:nvPicPr>
        <p:blipFill>
          <a:blip r:embed="rId1"/>
          <a:stretch/>
        </p:blipFill>
        <p:spPr>
          <a:xfrm>
            <a:off x="4464000" y="2322360"/>
            <a:ext cx="4680000" cy="45356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539640" y="220500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ГЉЕНДИОКСИД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(CO2) JE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ГАС БЕЗ БО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РИС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ЛАДУЊАВОГ УКУС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ЕЖИ ОД ВА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lcpa9215"/>
          <p:cNvPicPr/>
          <p:nvPr/>
        </p:nvPicPr>
        <p:blipFill>
          <a:blip r:embed="rId1"/>
          <a:stretch/>
        </p:blipFill>
        <p:spPr>
          <a:xfrm>
            <a:off x="442764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0300c"/>
                </a:solidFill>
                <a:latin typeface="Times New Roman"/>
                <a:ea typeface="Times New Roman"/>
              </a:rPr>
              <a:t>O</a:t>
            </a:r>
            <a:r>
              <a:rPr b="1" lang="sr-RS" sz="2800" spc="-1" strike="noStrike">
                <a:solidFill>
                  <a:srgbClr val="60300c"/>
                </a:solidFill>
                <a:latin typeface="Times New Roman"/>
                <a:ea typeface="Times New Roman"/>
              </a:rPr>
              <a:t>трови биљног порекла налазе се у лишћу, корену, цвету или плоду биљке</a:t>
            </a:r>
            <a:br>
              <a:rPr sz="24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3141360"/>
            <a:ext cx="4427640" cy="32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знатије биљке 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ебиљ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tropa bellad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atula stramo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yosciamus n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б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copolia armiolic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2060640"/>
            <a:ext cx="89647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0300c"/>
                </a:solidFill>
                <a:latin typeface="Arial Black"/>
              </a:rPr>
              <a:t>MA</a:t>
            </a:r>
            <a:r>
              <a:rPr b="1" lang="sr-RS" sz="2400" spc="-1" strike="noStrike">
                <a:solidFill>
                  <a:srgbClr val="60300c"/>
                </a:solidFill>
                <a:latin typeface="Arial Black"/>
              </a:rPr>
              <a:t>КСИМАЛНО ДОЗВОЉЕНА КОНЦЕНТРАЦИЈА</a:t>
            </a:r>
            <a:r>
              <a:rPr b="1" lang="sr-Latn-CS" sz="2400" spc="-1" strike="noStrike">
                <a:solidFill>
                  <a:srgbClr val="60300c"/>
                </a:solidFill>
                <a:latin typeface="Arial Black"/>
              </a:rPr>
              <a:t> CO2 </a:t>
            </a:r>
            <a:r>
              <a:rPr b="1" lang="sr-RS" sz="2400" spc="-1" strike="noStrike">
                <a:solidFill>
                  <a:srgbClr val="60300c"/>
                </a:solidFill>
                <a:latin typeface="Arial Black"/>
              </a:rPr>
              <a:t>У ПРОСТОРИЈАМА</a:t>
            </a:r>
            <a:r>
              <a:rPr b="1" lang="sr-Latn-CS" sz="2400" spc="-1" strike="noStrike">
                <a:solidFill>
                  <a:srgbClr val="60300c"/>
                </a:solidFill>
                <a:latin typeface="Arial Black"/>
              </a:rPr>
              <a:t> JE 0,5 %.</a:t>
            </a:r>
            <a:br>
              <a:rPr sz="2400"/>
            </a:b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9920" y="3213000"/>
            <a:ext cx="7543800" cy="30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ЕЛУЈЕ НА ДВА НАЧ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ОВЕЋАЊЕМ КНЦЕНТРАЦИЈЕ У ВАЗДУХУ У КОМЕ ГА НОРМАЛНО ИМА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0,03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0,06 %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ЧИМЕ СЕ СМАЊУЈЕ КОЛИЧИНА 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РКОТИЧНО ДЕЈСТВО ПРИ ЧЕМУ ДОЛАЗИ ДО ДЕПРЕСИВНОГ ДЕЈСТВА НА ЦНС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Е СВЕГА НА ЦЕНТАР ЗА ДИСАЊЕ А ШТО СЕ ТУМАЧИ КАО ХИПОКСИЧНО ОШТЕЋЕЊЕ ЦЕНТАРА У МОЗГ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K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ЛИНИЧКА СЛИКА ЈЕ У КОРЕЛАЦИЈИ СА КОНЦЕНТРАЦИЈОМ</a:t>
            </a: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 CO2 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У УДИСАНОМ ВАЗДУХУ</a:t>
            </a:r>
            <a:br>
              <a:rPr sz="2400"/>
            </a:b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296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ЦЕНТРАЦИЈА 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2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ШТА СЛАБОСТ, САЊИВ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КОНЦЕНТРАЦИЈА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8 %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АЗИВА НАДРАЖАЈ СЛУЗОКОЖА ОЧИЈУ И ГОРЊИХ ДИСАЈНИХ ПУТЕВА УЗ ПОЈАВУ ЗУЈАЊА У УШИМА, РАЗДРАЖЉИВОСТ, ПАЛПИ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ОНЦЕНТРАЦИЈА 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8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10 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АЗИВА ТАХИКАРД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РЕМЕЋАЈ СВ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ЛЕПТИФОРМНЕ ГРЧЕ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Д КРВНОГ ПРИТИ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ЦЕНТРАЦИЈА ОД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 50 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МРТ НАСТУПА У ТОКУ НЕКОЛИКО МИНУ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0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O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БДУКЦИОНИ НАЛАЗ ЈЕ НЕКАРАКТЕРИСТИЧАН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036000" cy="31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И ДОКАЗИВАЊУ ТРО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O2, 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АВЕЗНО СЕ ИСПИТИЈУ КОНЦЕНТРАЦ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O2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У ПРОСТОРИЈАМА У КОЈИМА ЈЕ ОТРОВАНА ОСОБА БО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РЕД ИСПИТИВАЊА САВРЕМЕНОМ ОПРЕМ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 ПРОСТОРИЈУ СЕ УНЕСЕ ЗАПАЉЕНА СВЕЋА И СТАВИ НА ПОД, АКО СЕ ПЛАМЕН СВЕЋЕ УГАСИ У ПРОСТОРИЈИ ЈЕ КОНЦЕНТРА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O2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ВЕЋА 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8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У ПРОСТОРИЈИ СА ПОВЕЋАНОМ КОЛИЧИН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O2 M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ЖЕ ДА СЕ УНЕСЕ КОКОШК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ГОЛУБ, КУНИЋ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KOJ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 ЋЕ ВЕОМА БРЗО УГИНУТИ АКО ЈЕ КОНЦЕНТРАЦИ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 CO2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ЗНАЧАЈНО ПОВЕЋА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56144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РОВАЊЕ СТРИХНИНОМ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229" name="Picture 2" descr="C:\Users\Korisnik\Downloads\strihnin.jpg"/>
          <p:cNvPicPr/>
          <p:nvPr/>
        </p:nvPicPr>
        <p:blipFill>
          <a:blip r:embed="rId1"/>
          <a:stretch/>
        </p:blipFill>
        <p:spPr>
          <a:xfrm>
            <a:off x="1547640" y="2781360"/>
            <a:ext cx="626436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71320" y="3352320"/>
            <a:ext cx="44290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РИХНИН ЈЕ АЛКАЛОИД КОЈИ СЕ ДОБИЈА ИЗ ПЛОДА БИЉК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STRYHNOS NUX VOMICA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ИЗ ИСТОЧНЕ АЗИ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LOGAN_Stry_ignatii_KohlersMedPl"/>
          <p:cNvPicPr/>
          <p:nvPr/>
        </p:nvPicPr>
        <p:blipFill>
          <a:blip r:embed="rId1"/>
          <a:stretch/>
        </p:blipFill>
        <p:spPr>
          <a:xfrm>
            <a:off x="5148360" y="2492280"/>
            <a:ext cx="3373200" cy="37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5364000" cy="44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РИСТИ СЕ У МЕДИЦИНИ ЗА ЛЕЧЕЊЕ МНОГИХ БОЛЕСТИ, КОД ПАРАПЛЕГИЈА, ХЕМИПЛЕГИЈА, ТРЕМОРА МИШИЋА, ГАСТРОИНТЕСТИНАЛНИХ ПОРЕМЕЋ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 ОБЛИКУ ПОСЕБНО НАПРАВЉЕНИХ МАМАЦА УПОТРЕБЉАВА СЕ ЗА УНИШТАВАЊЕ З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ЈЧЕШЋЕ СЕ КОРИСТИ У ОБЛИКУ С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(ФОСФАТА, СУЛФАТА, АЦЕТАТА, ТАРТАРА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ЈВЕЋА КОНЦЕНТРАЦИ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 (84 %) JE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 СТРИХНИН НИТРАТУ КОЈИ ЈЕ И НАЈАЧИ ОТРОВ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strihnin[1]"/>
          <p:cNvPicPr/>
          <p:nvPr/>
        </p:nvPicPr>
        <p:blipFill>
          <a:blip r:embed="rId1"/>
          <a:stretch/>
        </p:blipFill>
        <p:spPr>
          <a:xfrm>
            <a:off x="5219640" y="2205000"/>
            <a:ext cx="3745080" cy="349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0300c"/>
                </a:solidFill>
                <a:latin typeface="Arial Black"/>
              </a:rPr>
              <a:t>СПАДА У ГРУПУ НАЈАЧИХ ОТРОВА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!!!</a:t>
            </a:r>
            <a:br>
              <a:rPr sz="2000"/>
            </a:br>
            <a:r>
              <a:rPr b="1" lang="sr-RS" sz="2000" spc="-1" strike="noStrike">
                <a:solidFill>
                  <a:srgbClr val="60300c"/>
                </a:solidFill>
                <a:latin typeface="Arial Black"/>
              </a:rPr>
              <a:t>СМРТНА ДОЗА 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 JE O</a:t>
            </a:r>
            <a:r>
              <a:rPr b="1" lang="sr-RS" sz="2000" spc="-1" strike="noStrike">
                <a:solidFill>
                  <a:srgbClr val="60300c"/>
                </a:solidFill>
                <a:latin typeface="Arial Black"/>
              </a:rPr>
              <a:t>Д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60300c"/>
                </a:solidFill>
                <a:latin typeface="Arial Black"/>
              </a:rPr>
              <a:t>0,15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 </a:t>
            </a:r>
            <a:r>
              <a:rPr b="1" lang="sr-RS" sz="2000" spc="-1" strike="noStrike">
                <a:solidFill>
                  <a:srgbClr val="60300c"/>
                </a:solidFill>
                <a:latin typeface="Arial Black"/>
              </a:rPr>
              <a:t>Д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O </a:t>
            </a:r>
            <a:r>
              <a:rPr b="1" lang="en-US" sz="2000" spc="-1" strike="noStrike">
                <a:solidFill>
                  <a:srgbClr val="60300c"/>
                </a:solidFill>
                <a:latin typeface="Arial Black"/>
              </a:rPr>
              <a:t>0,30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 </a:t>
            </a:r>
            <a:r>
              <a:rPr b="1" lang="sr-RS" sz="2000" spc="-1" strike="noStrike">
                <a:solidFill>
                  <a:srgbClr val="60300c"/>
                </a:solidFill>
                <a:latin typeface="Arial Black"/>
              </a:rPr>
              <a:t>Г</a:t>
            </a:r>
            <a:r>
              <a:rPr b="1" lang="sr-Latn-CS" sz="2000" spc="-1" strike="noStrike">
                <a:solidFill>
                  <a:srgbClr val="60300c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4390920" cy="33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РАКЦИЈОМ ИЗ ПЛОДОВА БИЉКЕ ДОБИЈАЈУ СЕ БЕЗБОЈНИ ПРОВИДНИ КРИСТАЛИ ИЛИ БЕЛИ КРИСТАЛНИ ПРАШ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ЕЗ МИРИ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УЗЕТНО ГОРКОГ УКУСА, ДОБРО СЕ РАСТВАРА У ВОДИ И АЛКОХ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alimentazione-estate1[1]"/>
          <p:cNvPicPr/>
          <p:nvPr/>
        </p:nvPicPr>
        <p:blipFill>
          <a:blip r:embed="rId1"/>
          <a:stretch/>
        </p:blipFill>
        <p:spPr>
          <a:xfrm>
            <a:off x="5580000" y="3352680"/>
            <a:ext cx="2743200" cy="242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17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ЗНАЦИ ТРОВАЊ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2420640"/>
            <a:ext cx="90360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ВУЛЗИВНИ ОТРО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МИНАНТНИМ ДЕЈСТ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ПРОДУЖЕНУ И КИЧМЕНУ МОЖДИ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ЕЗ ПОСЕБНОГ ДЕЈСТВА НА МОЗ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ВИ ЗНАК ЈЕ ГРЧ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 СВЕГА ОНИХ ДУЖ КИЧМЕНОГ СТ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АЋЕН ОПИСТОТОНУС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АВЉА СЕ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РИЗУС САРДОНИКУ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ЗБОГ ГРЧА МУСКУЛАТУРЕ Л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РЧЕВИМА ЈЕ ЗАХВАЋЕНА ДИСАЈНА МУСКУЛАТУРА ТА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А СЕ ДИСАЊЕ ЗАУ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ТОКУ ТРАЈАЊА ГРЧ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ГРЧЕВИ СЕ ЈАВЉАЈУ НА НАЈМАЊИ НАДРАЖАЈ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ОДИР, СВЕТЛОСТ, БУК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И ТРАЈУ ОД ПОЛА ДО ЈЕДНОГ ИЛИ ДВА МИНУТ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ЛЕДУЈЕ РЕЛАКСАЦИЈА МИШИЋА А ЗАТИМ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НАКОН ДЕСЕТАК МИНУТА ОПЕТ ГР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7991280" cy="36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О СЕ ПОНАВЉА СА СВЕ КРАЋИМ ПАУЗАМА А СВЕ ДУЖИМ ГРЧЕВ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МРТ НАСТУПА УСЛЕД АСФИКСИЈЕ ИЗАЗВАНЕ ГРЧЕМ ДИСАЈНЕ МУСКУЛАТУ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У ТОКУ ТРАЈАЊА ГРЧЕ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ВЕ ДО СМР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ВЕСТ ЈЕ ОЧУВА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 СМРТИ СТРИХНИНСКИ ГРЧ ДИРЕКТНО ПРЕЛАЗИ У МРТВАЧКУ УКОЧЕНОСТ КОЈА ЈЕ ВЕОМА ДОБРО ИЗРАЖ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3357720"/>
            <a:ext cx="777240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 ОБДУКЦ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НАЦИ БРЗО НАСТАЛЕ СМРТИ СА ИЗРАЖЕНОМ МНОГОКРВНОШЋУ СВИХ ОРГАНА И МОЖДА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ЕОМА ЈЕ ОТПОРАН НА ТРУЉЕЊЕ ТАКО ДА ГА ЈЕ МОГУЋЕ ДОКАЗАТИ НА ЕКСХУМИРАНИМ ЛЕШЕ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09" name="Picture 5" descr="C:\Documents and Settings\Suzana\My Documents\My Pictures\SocratesDeath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9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4859280" cy="676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T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РОВАЊЕ ЦИЈАНОВОДОНИЧНОМ КИСЕЛИНОМ И ЊЕНИМ СОЛИМА</a:t>
            </a:r>
            <a:br>
              <a:rPr sz="2400"/>
            </a:b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(KA</a:t>
            </a: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ЛИЈУМ ЦИЈАНИД И НАТРИЈУМ ЦИЈАНИД</a:t>
            </a:r>
            <a:r>
              <a:rPr b="0" lang="sr-Latn-CS" sz="2400" spc="-1" strike="noStrike">
                <a:solidFill>
                  <a:srgbClr val="60300c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8920" y="4941360"/>
            <a:ext cx="2808360" cy="14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ПАДАЈУ У НАЈАЧЕ ОТР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10874"/>
          <p:cNvPicPr/>
          <p:nvPr/>
        </p:nvPicPr>
        <p:blipFill>
          <a:blip r:embed="rId1"/>
          <a:stretch/>
        </p:blipFill>
        <p:spPr>
          <a:xfrm>
            <a:off x="4859280" y="2565360"/>
            <a:ext cx="4284720" cy="42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141360"/>
            <a:ext cx="457200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ма је у коштицама коштуњавог воћа, горког баде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Prunus amygdalus var. amara)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рескве, кајсије и виш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tafel_076_small"/>
          <p:cNvPicPr/>
          <p:nvPr/>
        </p:nvPicPr>
        <p:blipFill>
          <a:blip r:embed="rId1"/>
          <a:stretch/>
        </p:blipFill>
        <p:spPr>
          <a:xfrm>
            <a:off x="4643280" y="220500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874872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ОСОБИНЕ</a:t>
            </a:r>
            <a:r>
              <a:rPr b="0" lang="sr-Latn-CS" sz="3600" spc="-1" strike="noStrike">
                <a:solidFill>
                  <a:srgbClr val="60300c"/>
                </a:solidFill>
                <a:latin typeface="Arial Black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2707920"/>
            <a:ext cx="3809880" cy="36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собној температури цијановодонична киселина је лако испарљива, безбојна теч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рише на горки бадем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одени раствор на ваздуху поприма плаву бо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„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дра 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medicina[1]"/>
          <p:cNvPicPr/>
          <p:nvPr/>
        </p:nvPicPr>
        <p:blipFill>
          <a:blip r:embed="rId1"/>
          <a:stretch/>
        </p:blipFill>
        <p:spPr>
          <a:xfrm>
            <a:off x="5232240" y="2781360"/>
            <a:ext cx="3660840" cy="3619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ДЕЈСТВЕНИ ЧИНИЛАЦ ТРОВАЊА</a:t>
            </a:r>
            <a:r>
              <a:rPr b="0" lang="sr-Latn-CS" sz="3200" spc="-1" strike="noStrike">
                <a:solidFill>
                  <a:srgbClr val="60300c"/>
                </a:solidFill>
                <a:latin typeface="Arial Black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јан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оли цијановодоничне 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носи се перорално или 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Излучивање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лимично преко плу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дахнути ваздух мирише на горки бад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већа количина преко бубре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1980720"/>
            <a:ext cx="6585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НАЧИН ДЕЈСТВА</a:t>
            </a:r>
            <a:br>
              <a:rPr sz="28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елики афинитет према тровалентном гвож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локирају дисајни ферм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тохром оксид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кивна анокс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и симптоми тровања јесу симптоми поремећене функције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ровне су и мале количине: одраслог човека може да убије око пет стотих делова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464328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0 - 6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г цијановодоничне киселине је смртна д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исање у атмосфери у којој је концентрација цијановодон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300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мг на кубни метар ваздух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азива готово тренутну смр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мртна доза за д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 je 6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10, 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аслу особ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60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штица горког бад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prunus-amygdalus_almendra"/>
          <p:cNvPicPr/>
          <p:nvPr/>
        </p:nvPicPr>
        <p:blipFill>
          <a:blip r:embed="rId1"/>
          <a:stretch/>
        </p:blipFill>
        <p:spPr>
          <a:xfrm>
            <a:off x="4643280" y="189000"/>
            <a:ext cx="3816360" cy="3097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auschwitz-138"/>
          <p:cNvPicPr/>
          <p:nvPr/>
        </p:nvPicPr>
        <p:blipFill>
          <a:blip r:embed="rId2"/>
          <a:stretch/>
        </p:blipFill>
        <p:spPr>
          <a:xfrm>
            <a:off x="4643280" y="3286080"/>
            <a:ext cx="43214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ПОРЕКЛО ТРОВАЊА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ДЕС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ИНДУСТРИЈИ И ПРИ ДЕРАТИЗАЦ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КЛОНИЗАЦ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МОУБИЛАЧ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БИЛАЧ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ЗНАТО ИЗ ВРЕ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ВЕТСКОГ РАТА КАДА СУ ВРШЕНА МАСОВНА УБИСТВА У НАЦИСТИЧКИМ ЛОГОРИМА ГАС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„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КЛО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“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ЈАНОВОДОНИКОМ СЕ ИЗВРШАВАЛА СМРТНА КАЗНА У НЕКИМ ДРЖАВАМА СА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(ГАСНЕ КОМО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Auschwitz%20gas%20chamber2"/>
          <p:cNvPicPr/>
          <p:nvPr/>
        </p:nvPicPr>
        <p:blipFill>
          <a:blip r:embed="rId1"/>
          <a:stretch/>
        </p:blipFill>
        <p:spPr>
          <a:xfrm>
            <a:off x="4673520" y="1125360"/>
            <a:ext cx="4362480" cy="300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Auschwitz%2025"/>
          <p:cNvPicPr/>
          <p:nvPr/>
        </p:nvPicPr>
        <p:blipFill>
          <a:blip r:embed="rId2"/>
          <a:stretch/>
        </p:blipFill>
        <p:spPr>
          <a:xfrm>
            <a:off x="4643280" y="4135320"/>
            <a:ext cx="4392720" cy="231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2276640"/>
            <a:ext cx="5435640" cy="45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 u="sng">
                <a:solidFill>
                  <a:srgbClr val="ff0000"/>
                </a:solidFill>
                <a:uFillTx/>
                <a:latin typeface="Arial"/>
              </a:rPr>
              <a:t>Перакутно тровање</a:t>
            </a:r>
            <a:r>
              <a:rPr b="1" lang="az-Cyrl-AZ" sz="2400" spc="-1" strike="noStrike" u="sng">
                <a:solidFill>
                  <a:srgbClr val="ffffcc"/>
                </a:solidFill>
                <a:uFillTx/>
                <a:latin typeface="Arial"/>
              </a:rPr>
              <a:t>-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смрт настаје за неколико минута уз крике жртве и </a:t>
            </a:r>
            <a:r>
              <a:rPr b="1" lang="az-Cyrl-AZ" sz="2400" spc="-1" strike="noStrike">
                <a:solidFill>
                  <a:srgbClr val="000000"/>
                </a:solidFill>
                <a:latin typeface="Arial"/>
              </a:rPr>
              <a:t>грчење мускулатуре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z-Cyrl-AZ" sz="2400" spc="-1" strike="noStrike" u="sng">
                <a:solidFill>
                  <a:srgbClr val="ff0000"/>
                </a:solidFill>
                <a:uFillTx/>
                <a:latin typeface="Arial"/>
              </a:rPr>
              <a:t>Код акутног тровања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прво настаје </a:t>
            </a:r>
            <a:r>
              <a:rPr b="1" lang="az-Cyrl-AZ" sz="2400" spc="-1" strike="noStrike">
                <a:solidFill>
                  <a:srgbClr val="000000"/>
                </a:solidFill>
                <a:latin typeface="Arial"/>
              </a:rPr>
              <a:t>иритација видљивих слузокожа, главобоља, повраћање, осећај љутине у устима, поремећај вида, отежано дисање, тахикардија, грчеви и на крају кома и смрт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STIFFACE[1]"/>
          <p:cNvPicPr/>
          <p:nvPr/>
        </p:nvPicPr>
        <p:blipFill>
          <a:blip r:embed="rId1"/>
          <a:stretch/>
        </p:blipFill>
        <p:spPr>
          <a:xfrm>
            <a:off x="5796000" y="2624040"/>
            <a:ext cx="2952720" cy="34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60300c"/>
                </a:solidFill>
                <a:latin typeface="Arial Black"/>
              </a:rPr>
              <a:t>O</a:t>
            </a: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БДУКЦИОНИ НАЛАЗ</a:t>
            </a:r>
            <a:br>
              <a:rPr sz="2800"/>
            </a:b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но настала и добро изражена мртвачка укоч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твачке мрље отвореноцрвене бо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серозним опнама тачкасти и мрљасти крвни подли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мозгу едем и хипер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ГНОЗА ТР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 u="sng">
                <a:solidFill>
                  <a:srgbClr val="ff0000"/>
                </a:solidFill>
                <a:uFillTx/>
                <a:latin typeface="Arial"/>
              </a:rPr>
              <a:t>Хемијско-токсиколошки налаз (гас хроматографија)</a:t>
            </a:r>
            <a:r>
              <a:rPr b="1" lang="sr-Latn-RS" sz="24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az-Cyrl-AZ" sz="2400" spc="-1" strike="noStrike">
                <a:solidFill>
                  <a:srgbClr val="000000"/>
                </a:solidFill>
                <a:latin typeface="Arial"/>
              </a:rPr>
              <a:t> Узорке узети што пре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 јер ова супстанца врло брзо и лако испа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Auschwitz%2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11" name="Content Placeholder 3" descr=""/>
          <p:cNvPicPr/>
          <p:nvPr/>
        </p:nvPicPr>
        <p:blipFill>
          <a:blip r:embed="rId1"/>
          <a:stretch/>
        </p:blipFill>
        <p:spPr>
          <a:xfrm>
            <a:off x="0" y="3429000"/>
            <a:ext cx="4716360" cy="332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115920"/>
            <a:ext cx="4716360" cy="331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716360" y="115920"/>
            <a:ext cx="4427640" cy="331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735440" y="3429000"/>
            <a:ext cx="4408560" cy="332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9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0300c"/>
                </a:solidFill>
                <a:latin typeface="Arial Black"/>
              </a:rPr>
              <a:t>Тровања лековима</a:t>
            </a:r>
            <a:endParaRPr b="0" lang="en-US" sz="2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2420640"/>
            <a:ext cx="89280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рмацеутске супстаце и свака од њих је потенцијално токсична. Тровања лековима су задесна или самоубилачка, најчешћ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атофизиоло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рдиореспираторни колапс или депресија дис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линичког нала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сто и нем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р је особа нађ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есвесном стању, или мр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анатолошки нала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специфич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Хемијско-токсиколошким анализа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ове и њихове метаболите релативно је лако доказати и квантификовати у биолошком материј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96472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0300c"/>
                </a:solidFill>
                <a:latin typeface="Arial Black"/>
              </a:rPr>
              <a:t>Аналгетици</a:t>
            </a:r>
            <a:endParaRPr b="0" lang="en-US" sz="28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2565360"/>
            <a:ext cx="565164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Салицилати: мучнина, повраћање, проливи, главобоље, аритмије, знојење, хипотензија, касније цијаноза, конвулзије, крварења у слузокожама. Токсична доза је 10-15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Код интоксикације Тродоном: депресија централног нервног система, конвулзије, касније к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Content Placeholder 4" descr=""/>
          <p:cNvPicPr/>
          <p:nvPr/>
        </p:nvPicPr>
        <p:blipFill>
          <a:blip r:embed="rId1"/>
          <a:stretch/>
        </p:blipFill>
        <p:spPr>
          <a:xfrm>
            <a:off x="5853240" y="4483080"/>
            <a:ext cx="3111480" cy="214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5853240" y="2243160"/>
            <a:ext cx="311148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394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Психотропни лекови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4221000"/>
            <a:ext cx="4716360" cy="24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нотиаз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нзодиазеп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Кардиотроп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Arial"/>
              </a:rPr>
              <a:t>Миорелакс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Content Placeholder 6" descr=""/>
          <p:cNvPicPr/>
          <p:nvPr/>
        </p:nvPicPr>
        <p:blipFill>
          <a:blip r:embed="rId1"/>
          <a:stretch/>
        </p:blipFill>
        <p:spPr>
          <a:xfrm>
            <a:off x="325440" y="2565360"/>
            <a:ext cx="3389400" cy="1655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C:\Users\Korisnik\Downloads\lekovi.jpg"/>
          <p:cNvPicPr/>
          <p:nvPr/>
        </p:nvPicPr>
        <p:blipFill>
          <a:blip r:embed="rId2"/>
          <a:stretch/>
        </p:blipFill>
        <p:spPr>
          <a:xfrm>
            <a:off x="4917960" y="3141720"/>
            <a:ext cx="3676680" cy="275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9280" y="1844640"/>
            <a:ext cx="8964720" cy="455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6000"/>
          </a:bodyPr>
          <a:p>
            <a:pPr marL="585000" indent="-585000" algn="ctr">
              <a:spcBef>
                <a:spcPts val="700"/>
              </a:spcBef>
              <a:buClr>
                <a:srgbClr val="4824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82409"/>
                </a:solidFill>
                <a:uFillTx/>
                <a:latin typeface="Arial"/>
              </a:rPr>
              <a:t>Тровање инсул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линичка сл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хипогликемиј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анатолошки нала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дукциони налаз је неспецифичан и некарактеристичан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оди на кожи од шп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Хемијско-токсиколошки налаз </a:t>
            </a:r>
            <a:r>
              <a:rPr b="1" lang="sr-Latn-RS" sz="2800" spc="-1" strike="noStrike" u="sng">
                <a:solidFill>
                  <a:srgbClr val="ffffcc"/>
                </a:solidFill>
                <a:uFillTx/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ређивање концентрације C-протеина, као и глуко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орекло смр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јчешће терапијски јатрогени задеси. Могућа су самоубиства дијабетичара и медицинског особља као и уби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923760" y="1892160"/>
            <a:ext cx="2962440" cy="15433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Животињски отрови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5580000" y="1892160"/>
            <a:ext cx="2476440" cy="122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057320" y="3508200"/>
            <a:ext cx="2736720" cy="1498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4"/>
          <a:stretch/>
        </p:blipFill>
        <p:spPr>
          <a:xfrm>
            <a:off x="5580000" y="3467160"/>
            <a:ext cx="2476440" cy="1498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5"/>
          <a:stretch/>
        </p:blipFill>
        <p:spPr>
          <a:xfrm>
            <a:off x="1057320" y="5113440"/>
            <a:ext cx="2695680" cy="1695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6"/>
          <a:stretch/>
        </p:blipFill>
        <p:spPr>
          <a:xfrm>
            <a:off x="5643720" y="5022720"/>
            <a:ext cx="2476440" cy="169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0300c"/>
                </a:solidFill>
                <a:latin typeface="Arial Black"/>
              </a:rPr>
              <a:t>Тровање биљкама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2923920"/>
            <a:ext cx="9144000" cy="34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рицинус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кукут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бун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ђурђевак, кукурек и азале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лијандер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мразо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Arial"/>
              </a:rPr>
              <a:t>Тровање гљивицама и печур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афлатоксин лучи </a:t>
            </a:r>
            <a:r>
              <a:rPr b="0" i="1" lang="sr-Latn-RS" sz="2400" spc="-1" strike="noStrike">
                <a:solidFill>
                  <a:srgbClr val="000000"/>
                </a:solidFill>
                <a:latin typeface="Arial"/>
              </a:rPr>
              <a:t>Aspergillus flavus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канцеро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готизам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тровање ергот-алкалоидима, отровима које луч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жена гла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ечурка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manita muscaria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халуциногени еф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Једна од најотровнијих гљива  је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manita phall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Users\Korisnik\Downloads\images.jpg"/>
          <p:cNvPicPr/>
          <p:nvPr/>
        </p:nvPicPr>
        <p:blipFill>
          <a:blip r:embed="rId1"/>
          <a:stretch/>
        </p:blipFill>
        <p:spPr>
          <a:xfrm>
            <a:off x="3419640" y="90360"/>
            <a:ext cx="572436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7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0300c"/>
                </a:solidFill>
                <a:latin typeface="Arial Black"/>
              </a:rPr>
              <a:t>Злоупотреба стероида и енергетских пића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5440" y="3352320"/>
            <a:ext cx="3809880" cy="304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47960" y="3352320"/>
            <a:ext cx="3809880" cy="304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</p:pic>
      <p:pic>
        <p:nvPicPr>
          <p:cNvPr id="290" name="Picture 2" descr="C:\Users\Korisnik\Downloads\steroidi.jpg"/>
          <p:cNvPicPr/>
          <p:nvPr/>
        </p:nvPicPr>
        <p:blipFill>
          <a:blip r:embed="rId3"/>
          <a:stretch/>
        </p:blipFill>
        <p:spPr>
          <a:xfrm>
            <a:off x="108000" y="2997360"/>
            <a:ext cx="4248000" cy="3771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C:\Users\Korisnik\Downloads\e.pica.jpg"/>
          <p:cNvPicPr/>
          <p:nvPr/>
        </p:nvPicPr>
        <p:blipFill>
          <a:blip r:embed="rId4"/>
          <a:stretch/>
        </p:blipFill>
        <p:spPr>
          <a:xfrm>
            <a:off x="4502160" y="3352680"/>
            <a:ext cx="359892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5:09:23Z</dcterms:created>
  <dc:creator>kaic</dc:creator>
  <dc:description/>
  <dc:language>en-US</dc:language>
  <cp:lastModifiedBy>Ana</cp:lastModifiedBy>
  <dcterms:modified xsi:type="dcterms:W3CDTF">2019-02-09T13:02:23Z</dcterms:modified>
  <cp:revision>251</cp:revision>
  <dc:subject/>
  <dc:title>STOMATOLOŠKA SKRB</dc:title>
</cp:coreProperties>
</file>